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06346"/>
        <c:axId val="28983543"/>
      </c:barChart>
      <c:catAx>
        <c:axId val="35806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3543"/>
        <c:crosses val="autoZero"/>
        <c:auto val="1"/>
        <c:lblAlgn val="ctr"/>
        <c:lblOffset val="100"/>
        <c:noMultiLvlLbl val="0"/>
      </c:catAx>
      <c:valAx>
        <c:axId val="28983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06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2C6-AB32-4D71-BFF6-A03391C0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391-2D12-436C-8003-CC659E69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105-BD25-4FCC-93C6-4A135228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12D-DA41-4D11-BFBA-FE012699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906-C5A4-488F-9D84-32EECE2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6E8-88AB-4434-8AFE-99D42AC5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FAF-E854-4990-994C-F20A1127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245-B622-426D-87AD-9DF3BA2A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7EF-95DB-4268-87C5-A0E2B9E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179-D125-49DD-9F70-27CC965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F7D-629A-4A39-AC1D-0565C18D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600-B097-440F-B29C-E6FE515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D8C4F-E30C-45CB-B924-C918266E5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