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0532"/>
        <c:axId val="76599741"/>
      </c:barChart>
      <c:catAx>
        <c:axId val="91210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9741"/>
        <c:crosses val="autoZero"/>
        <c:auto val="1"/>
        <c:lblAlgn val="ctr"/>
        <c:lblOffset val="100"/>
        <c:noMultiLvlLbl val="0"/>
      </c:catAx>
      <c:valAx>
        <c:axId val="76599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0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BCD-CE2B-45F7-B73C-91DF6B38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543-3EA0-47BC-B019-E8584925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953-4352-4846-8F71-074ADF40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42B-2E6F-4493-8761-68DFA814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19E-ABEA-4B91-AD0C-EA2DBE1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3F1-A81C-4F37-A6F0-7758640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C11-995E-48D3-BF36-930C4AA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3F1-3E7E-4483-9DE5-EFB0805B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61B-19D1-40FC-B62D-8AA5457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022-4447-4940-AD04-0E91641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19B-C275-48A7-89B5-FB68FBC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C13-8FC0-4D60-9376-E11453B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28672-1D31-4D02-B9FC-8C907BDB3E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