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5343"/>
        <c:axId val="4676105"/>
      </c:barChart>
      <c:catAx>
        <c:axId val="9005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6105"/>
        <c:crosses val="autoZero"/>
        <c:auto val="1"/>
        <c:lblAlgn val="ctr"/>
        <c:lblOffset val="100"/>
        <c:noMultiLvlLbl val="0"/>
      </c:catAx>
      <c:valAx>
        <c:axId val="4676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5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DEE-EB49-420E-A97F-6A85C6FD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4C4F-04B4-4191-9EDA-7D1F0DE9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6FF-63B6-40E1-BF16-F6C9F785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270-7382-462B-9F76-D0BE38B5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2CE-F29B-4E9B-B1DD-BDE0E3FB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2CB-FB6F-45AB-A9EB-4199654C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6AF-1384-4C1C-A388-51DAD3A0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5C2-6D15-47A8-8779-FB5F9DCD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B45-6A58-40B8-BCC8-FBBF70C3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0F7-24C0-4D30-B3EA-46F746DE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BC2B-B614-4309-A07E-695A753A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F1E-24DD-4E6F-B849-621D5EB5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FED19-E97B-4C70-B3D2-B0903AAA1A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