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51873"/>
        <c:axId val="98151268"/>
      </c:barChart>
      <c:catAx>
        <c:axId val="87351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1268"/>
        <c:crosses val="autoZero"/>
        <c:auto val="1"/>
        <c:lblAlgn val="ctr"/>
        <c:lblOffset val="100"/>
        <c:noMultiLvlLbl val="0"/>
      </c:catAx>
      <c:valAx>
        <c:axId val="98151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51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A31-A259-4F0C-8B48-B32ADE11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A1D-9981-4BE9-BD3C-AE8BBF8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63C-BFCB-4119-9499-6EF7C6E9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6F5-C14A-46DF-8C24-6DB621A8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887-2D66-4707-BF5D-B068E1D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EB1-6B58-4A23-AF39-8C0BEE2A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15B-6645-4B0C-A2F6-1E29FE0B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782-97BC-43E5-A0EA-9F02FCF8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F80-157A-47CC-B2F3-708D36C6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CEB-9962-4A09-9FB9-8F42DCF3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021-4F40-4D4E-8B80-C74E2329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C50-D9D4-4B56-9D2A-EC8426C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70452-D756-40F1-A6EF-BFC9C73A3D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