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9"/>
        <c:axId val="42697612"/>
      </c:barChart>
      <c:catAx>
        <c:axId val="2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97612"/>
        <c:crosses val="autoZero"/>
        <c:auto val="1"/>
        <c:lblAlgn val="ctr"/>
        <c:lblOffset val="100"/>
        <c:noMultiLvlLbl val="0"/>
      </c:catAx>
      <c:valAx>
        <c:axId val="42697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FDD-6EBF-467B-8DDA-160D82EC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ADF-9BF4-49B4-AC7B-B6C08E9E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A91-A033-43A2-9FF8-09EAB01A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814-4CEB-4DA2-9955-CE6A1A6E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5D1-00A0-46E6-A112-46C6CE38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5E9-CD46-478A-B46B-8CE036D0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5B6-2911-484F-B756-E67367C0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925-1453-4A49-AFC5-FFD9DEB2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B6B-2547-4747-8C7D-D78AF413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9D3-8737-40DE-9EF2-E69220B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CC6-AACE-49D1-BDE2-16954A3D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2E9-D789-40A4-BC5E-9133E1D6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7C7EC-19F9-46C8-8654-DA8A9F5308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