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06482"/>
        <c:axId val="21161025"/>
      </c:barChart>
      <c:catAx>
        <c:axId val="40906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61025"/>
        <c:crosses val="autoZero"/>
        <c:auto val="1"/>
        <c:lblAlgn val="ctr"/>
        <c:lblOffset val="100"/>
        <c:noMultiLvlLbl val="0"/>
      </c:catAx>
      <c:valAx>
        <c:axId val="21161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06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271-B606-4162-88E1-0A4DB400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990-61B5-4FB5-9597-C9B992D4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4A1-09CF-45B5-926E-0A75BCD8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C21-86B6-4049-8169-5B0289D6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F3E-A4AD-4A48-BA71-0BC9EAA6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541-6516-46C5-AB55-89A4D7D2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60A-B99C-4F45-AA77-1AD27C50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602-048B-4C6F-B4FE-FB5EED52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23A-C564-4ECD-9437-E8F5ACD0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5CB-505B-4197-BBA7-8BC8F717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495-0327-4F7C-97A9-CFD18987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6F3-7CE0-427F-9A05-42CF6BE5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5DDF3-5255-4071-9694-EEABC78290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